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22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21.wmf" ContentType="image/x-wmf"/>
  <Override PartName="/ppt/media/image19.wmf" ContentType="image/x-wmf"/>
  <Override PartName="/ppt/media/image1.wmf" ContentType="image/x-wmf"/>
  <Override PartName="/ppt/media/image17.png" ContentType="image/png"/>
  <Override PartName="/ppt/media/image14.png" ContentType="image/png"/>
  <Override PartName="/ppt/media/image2.jpeg" ContentType="image/jpeg"/>
  <Override PartName="/ppt/media/image5.wmf" ContentType="image/x-wmf"/>
  <Override PartName="/ppt/media/image6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0C04CFA-AB81-48AA-A404-9176D622C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FE6F3B6-2E82-4A6C-B7FF-E0B16872C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7097ACC-0EE6-405E-A507-69A6F8587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149A1C1-3FFE-4A51-AC55-96257A006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C26DB1D-AA76-4B67-804C-CE0C63794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64C11C9-4DA9-429D-8027-5FE7B7983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F94AB8A-1169-4DFB-A0EB-3AD943ADD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07F4AFA-55FF-4056-8EEC-1A3AB8771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DA264AB-74E9-4218-A9F7-E2130323A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CDA8FD6-8389-42BD-A78F-E0D865FDA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1CC580C-C98E-4374-884F-C3683C260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E8744DC-50FB-4C85-9DBB-219399C7E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B9409AC-4A00-4170-AB8E-A2FA3BCF2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at the power point presentation will cover to give the students an idea of the t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1AECF3F-2C01-4E6A-BC5B-42138BE2D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9738C79-0367-4A63-AB2E-E6AD2756E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8A3783D-95D9-420F-AEBD-75AF29F7C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1415C96-7AA0-4DBC-9991-661838420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15F6056-32C0-43E3-87B7-914273CA3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826FCA3-EACD-4CCA-8545-B75252817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" name="Line 17"/>
          <p:cNvSpPr/>
          <p:nvPr/>
        </p:nvSpPr>
        <p:spPr>
          <a:xfrm>
            <a:off x="1066680" y="624852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18"/>
          <p:cNvSpPr/>
          <p:nvPr/>
        </p:nvSpPr>
        <p:spPr>
          <a:xfrm>
            <a:off x="7924680" y="13644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7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24"/>
          <p:cNvSpPr/>
          <p:nvPr/>
        </p:nvSpPr>
        <p:spPr>
          <a:xfrm>
            <a:off x="1523880" y="6324480"/>
            <a:ext cx="6324840" cy="6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May 2010 – Depository Institutions Unit – Depository Institutions – Slide </a:t>
            </a:r>
            <a:fld id="{61FC875C-9948-4747-8381-C997CF20E429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Group 23"/>
          <p:cNvGrpSpPr/>
          <p:nvPr/>
        </p:nvGrpSpPr>
        <p:grpSpPr>
          <a:xfrm>
            <a:off x="609480" y="6400800"/>
            <a:ext cx="8267760" cy="228600"/>
            <a:chOff x="609480" y="6400800"/>
            <a:chExt cx="8267760" cy="228600"/>
          </a:xfrm>
        </p:grpSpPr>
        <p:pic>
          <p:nvPicPr>
            <p:cNvPr id="16" name="Picture 16" descr="UA-horiz blk"/>
            <p:cNvPicPr/>
            <p:nvPr/>
          </p:nvPicPr>
          <p:blipFill>
            <a:blip r:embed="rId2"/>
            <a:stretch/>
          </p:blipFill>
          <p:spPr>
            <a:xfrm>
              <a:off x="609480" y="6400800"/>
              <a:ext cx="814320" cy="1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" name="Picture 3" descr="TCA-New-Logo-3-color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7695000" y="6400800"/>
              <a:ext cx="118224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Line 21"/>
          <p:cNvSpPr/>
          <p:nvPr/>
        </p:nvSpPr>
        <p:spPr>
          <a:xfrm>
            <a:off x="1066680" y="638172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7924680" y="13644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7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R:\Templates &amp; Logos\Logos\FEFE Logos from Debra Bowles\FEFE Logo Clear Background.png"/>
          <p:cNvPicPr/>
          <p:nvPr/>
        </p:nvPicPr>
        <p:blipFill>
          <a:blip r:embed="rId2"/>
          <a:stretch/>
        </p:blipFill>
        <p:spPr>
          <a:xfrm>
            <a:off x="3886200" y="5638680"/>
            <a:ext cx="1066680" cy="594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R:\TCAI\Templates &amp; Logos\Logos\TCAI ICON_final.png"/>
          <p:cNvPicPr/>
          <p:nvPr/>
        </p:nvPicPr>
        <p:blipFill>
          <a:blip r:embed="rId3"/>
          <a:stretch/>
        </p:blipFill>
        <p:spPr>
          <a:xfrm>
            <a:off x="6400800" y="5867280"/>
            <a:ext cx="1690560" cy="3114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553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Copperplate Gothic Light"/>
              </a:rPr>
              <a:t>Depository Institutions</a:t>
            </a:r>
            <a:endParaRPr b="0" lang="en-US" sz="47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aur"/>
              </a:rPr>
              <a:t>Take Charge of Your Finances 1.7.3</a:t>
            </a:r>
            <a:endParaRPr b="0" lang="en-US" sz="3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Savings and Loan Association (S&amp;Ls)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avings and Loan Association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ocus on providing loans and mortgag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ustomers must have a savings account with them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Examples – American Federal Savings Bank, Pioneer Federal Savings &amp; Loan.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43" name="Picture 8" descr="j0287246[1]"/>
          <p:cNvPicPr/>
          <p:nvPr/>
        </p:nvPicPr>
        <p:blipFill>
          <a:blip r:embed="rId1"/>
          <a:stretch/>
        </p:blipFill>
        <p:spPr>
          <a:xfrm>
            <a:off x="7391520" y="4952880"/>
            <a:ext cx="144756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Types of Insurance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Federal Deposit Insurance Corporation (FDIC)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Federal government agency which protects depository institution accoun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nsures commercial banks and savings and loan association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National Credit Union Administration (NCUA)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Provides insurance for credit union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46" name="Picture 4" descr="FDIC"/>
          <p:cNvPicPr/>
          <p:nvPr/>
        </p:nvPicPr>
        <p:blipFill>
          <a:blip r:embed="rId1"/>
          <a:srcRect l="0" t="0" r="76620" b="0"/>
          <a:stretch/>
        </p:blipFill>
        <p:spPr>
          <a:xfrm>
            <a:off x="7327800" y="2133720"/>
            <a:ext cx="1587600" cy="685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INS-EngHP"/>
          <p:cNvPicPr/>
          <p:nvPr/>
        </p:nvPicPr>
        <p:blipFill>
          <a:blip r:embed="rId2"/>
          <a:stretch/>
        </p:blipFill>
        <p:spPr>
          <a:xfrm>
            <a:off x="7391520" y="4191120"/>
            <a:ext cx="15253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Insurance Protection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Insurance protection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Each depositor is insured up to $250,000 for money deposited in a regular account and $250,000 for retirement deposits  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vailable from both FDIC and NCUA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nsurance is important because of the risk of loss 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Risk of Loss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 is used to determine which party should be responsible for damage or loss of products after a service transaction has been completed but prior to delivery  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Interest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aur"/>
              </a:rPr>
              <a:t>Interest</a:t>
            </a: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 - the amount of money that is either gained or lost when accessing services offered by a depository institution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aur"/>
              </a:rPr>
              <a:t>Interest rate</a:t>
            </a: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 - the percentage used annually to calculate the total interest either gained or lost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5800" y="2971800"/>
          <a:ext cx="7924680" cy="321624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320"/>
              </a:tblGrid>
              <a:tr h="6404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Centaur"/>
                        </a:rPr>
                        <a:t>Type of accou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Centaur"/>
                        </a:rPr>
                        <a:t>Interest rat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Centaur"/>
                        </a:rPr>
                        <a:t>Impact on the consum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610200">
                <a:tc row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Interest bearing -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money earned from an investment instru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00007d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More money earned by the consum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60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7d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Less money ear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7d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610200">
                <a:tc row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Interest bearing -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the charge for money that a consumer borrows from a depository instit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7d"/>
                      </a:solidFill>
                    </a:lnT>
                    <a:lnB w="9360">
                      <a:solidFill>
                        <a:srgbClr val="00007d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7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More money paid by the consum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00007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7d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Less money pa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7d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79240">
                <a:tc gridSpan="3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9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Credit unions typically offer rates which have the most positive impact on the consum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00007d"/>
                      </a:solidFill>
                    </a:lnT>
                    <a:lnB>
                      <a:noFill/>
                    </a:lnB>
                    <a:solidFill>
                      <a:srgbClr val="dede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Depository Institution Services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54" name="Picture 5" descr="j0238034"/>
          <p:cNvPicPr/>
          <p:nvPr/>
        </p:nvPicPr>
        <p:blipFill>
          <a:blip r:embed="rId1"/>
          <a:stretch/>
        </p:blipFill>
        <p:spPr>
          <a:xfrm>
            <a:off x="2971800" y="2971800"/>
            <a:ext cx="33307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Common Services Offered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56" name="Diagram 4" descr=""/>
          <p:cNvPicPr/>
          <p:nvPr/>
        </p:nvPicPr>
        <p:blipFill>
          <a:blip r:embed="rId1"/>
          <a:stretch/>
        </p:blipFill>
        <p:spPr>
          <a:xfrm>
            <a:off x="993600" y="1590840"/>
            <a:ext cx="754092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Interest Bearing Accounts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58" name="Diagram 3" descr=""/>
          <p:cNvPicPr/>
          <p:nvPr/>
        </p:nvPicPr>
        <p:blipFill>
          <a:blip r:embed="rId1"/>
          <a:stretch/>
        </p:blipFill>
        <p:spPr>
          <a:xfrm>
            <a:off x="189000" y="1596960"/>
            <a:ext cx="850428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Interest Bearing Accounts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Credit Card 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 card used to make a purchase now and repay later 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1119960" indent="-22392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If the balance is paid before the grace period ends, interest is not added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2" marL="1119960" indent="-22392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If the balance is paid after the grace period, the payment of interest is required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Loan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Money borrowed and paid back with interes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1119960" indent="-22392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Mortgage – loan for a home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2" marL="1119960" indent="-22392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Personal – interest rates vary depending upon type of loan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3" marL="1568160" indent="-22392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Loan types can include vehicle, school, etc.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61" name="Picture 6" descr="bs00254_[1]"/>
          <p:cNvPicPr/>
          <p:nvPr/>
        </p:nvPicPr>
        <p:blipFill>
          <a:blip r:embed="rId1"/>
          <a:stretch/>
        </p:blipFill>
        <p:spPr>
          <a:xfrm>
            <a:off x="7315200" y="1600200"/>
            <a:ext cx="14223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Additional Services Which May Be Offered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457200" y="198108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  <a:ea typeface="ＭＳ Ｐゴシック"/>
              </a:rPr>
              <a:t>Safe-Deposit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  <a:ea typeface="ＭＳ Ｐゴシック"/>
              </a:rPr>
              <a:t>A secured box in a bank to be used for valuable and important personal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  <a:ea typeface="ＭＳ Ｐゴシック"/>
              </a:rPr>
              <a:t>Financial Couns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  <a:ea typeface="ＭＳ Ｐゴシック"/>
              </a:rPr>
              <a:t>Information and advice is given to customers to help make financial deci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http://www.clipperz.com/files/clipperz.com/safe-deposit-box.jpg"/>
          <p:cNvPicPr/>
          <p:nvPr/>
        </p:nvPicPr>
        <p:blipFill>
          <a:blip r:embed="rId1"/>
          <a:stretch/>
        </p:blipFill>
        <p:spPr>
          <a:xfrm>
            <a:off x="5334120" y="3124080"/>
            <a:ext cx="1885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2209680"/>
            <a:ext cx="4800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pperplate Gothic Light"/>
              </a:rPr>
              <a:t>Conclusion&amp; Review</a:t>
            </a:r>
            <a:endParaRPr b="0" lang="en-US" sz="5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66" name="Picture 7" descr="j0232784"/>
          <p:cNvPicPr/>
          <p:nvPr/>
        </p:nvPicPr>
        <p:blipFill>
          <a:blip r:embed="rId1"/>
          <a:stretch/>
        </p:blipFill>
        <p:spPr>
          <a:xfrm>
            <a:off x="5292720" y="1219320"/>
            <a:ext cx="2708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Depository Institutions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6019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Depository Institutions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 – businesses which offer multiple services in banking and financ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These institutions include: 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Banks 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Savings and Loan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Credit Union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They are regulated by various state and federal agencies 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21" name="Picture 12" descr="j0250894"/>
          <p:cNvPicPr/>
          <p:nvPr/>
        </p:nvPicPr>
        <p:blipFill>
          <a:blip r:embed="rId1"/>
          <a:stretch/>
        </p:blipFill>
        <p:spPr>
          <a:xfrm>
            <a:off x="6477120" y="2743200"/>
            <a:ext cx="225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68" name="Diagram 4" descr=""/>
          <p:cNvPicPr/>
          <p:nvPr/>
        </p:nvPicPr>
        <p:blipFill>
          <a:blip r:embed="rId1"/>
          <a:stretch/>
        </p:blipFill>
        <p:spPr>
          <a:xfrm>
            <a:off x="298440" y="1504800"/>
            <a:ext cx="751680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Depository Institutions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23" name="Diagram 7" descr=""/>
          <p:cNvPicPr/>
          <p:nvPr/>
        </p:nvPicPr>
        <p:blipFill>
          <a:blip r:embed="rId1"/>
          <a:stretch/>
        </p:blipFill>
        <p:spPr>
          <a:xfrm>
            <a:off x="384120" y="1450800"/>
            <a:ext cx="845496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ervices include: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Federal Reserve Bank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26" name="Diagram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Federal Reserve Bank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ich federal reserve bank is located in your region?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29" name="Picture 4" descr="usmap3"/>
          <p:cNvPicPr/>
          <p:nvPr/>
        </p:nvPicPr>
        <p:blipFill>
          <a:blip r:embed="rId1"/>
          <a:stretch/>
        </p:blipFill>
        <p:spPr>
          <a:xfrm>
            <a:off x="1447920" y="2297160"/>
            <a:ext cx="678168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Life of a Deposited Check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31" name="Diagram 5" descr=""/>
          <p:cNvPicPr/>
          <p:nvPr/>
        </p:nvPicPr>
        <p:blipFill>
          <a:blip r:embed="rId1"/>
          <a:stretch/>
        </p:blipFill>
        <p:spPr>
          <a:xfrm>
            <a:off x="231840" y="1504800"/>
            <a:ext cx="87361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Depository Institutions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33" name="Picture 7" descr="BD19937_[1]"/>
          <p:cNvPicPr/>
          <p:nvPr/>
        </p:nvPicPr>
        <p:blipFill>
          <a:blip r:embed="rId1"/>
          <a:stretch/>
        </p:blipFill>
        <p:spPr>
          <a:xfrm>
            <a:off x="838080" y="2286000"/>
            <a:ext cx="3183120" cy="28814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2666880"/>
            <a:ext cx="4038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Commercial Bank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Credit Union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avings and Loan Association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Commercial Bank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Commercial Banks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Usually the largest depository institutions 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onsidered full-service depository institutions 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vailable to a variety of consume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Examples – Wells Fargo, US Bank, Chase Bank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37" name="Picture 4" descr="j0089228[1]"/>
          <p:cNvPicPr/>
          <p:nvPr/>
        </p:nvPicPr>
        <p:blipFill>
          <a:blip r:embed="rId1"/>
          <a:stretch/>
        </p:blipFill>
        <p:spPr>
          <a:xfrm>
            <a:off x="7315200" y="1752480"/>
            <a:ext cx="1143000" cy="10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Credit Union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Credit Unions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Non-profit cooperative depository institution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Owned by members who share a common bond 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Examples – Rocky Mountain Credit Union, Teachers Federal Credit Union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40" name="Picture 4" descr="j0291005"/>
          <p:cNvPicPr/>
          <p:nvPr/>
        </p:nvPicPr>
        <p:blipFill>
          <a:blip r:embed="rId1"/>
          <a:stretch/>
        </p:blipFill>
        <p:spPr>
          <a:xfrm>
            <a:off x="7696080" y="5105520"/>
            <a:ext cx="846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6:53:24Z</dcterms:created>
  <dc:creator>meanderson</dc:creator>
  <dc:description/>
  <dc:language>en-US</dc:language>
  <cp:lastModifiedBy>Tiffany Kiramidjian</cp:lastModifiedBy>
  <dcterms:modified xsi:type="dcterms:W3CDTF">2011-05-04T22:34:14Z</dcterms:modified>
  <cp:revision>114</cp:revision>
  <dc:subject/>
  <dc:title>Money Management</dc:title>
</cp:coreProperties>
</file>